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CEA-FAFD-43D5-826E-5C2B5AC6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6FD-BF76-40B8-BFB2-04DB3B8D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4F6-FF34-4A45-ABAA-60C93D53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077-A89B-4527-BF64-9FDDF21C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BCD1-BDCE-4826-9123-CF8D4E36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F42B-0224-46AA-987F-5B92F7C0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88B0-F377-41FB-A2A0-41B4EABC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2DC2-FE93-41CB-BFA2-56F5916C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ECF2-CEC8-4133-9896-52B27E23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EB01-7DE5-4279-8CDC-A90E3AFE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5138-CAC7-4D20-BB9B-E7C549A5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BFB-EAEF-4C3B-90F0-B182307C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F9F9-DEA2-401F-9AB9-5E0E7B83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EFAF-4513-4A03-BCB7-4EB0A2F3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0856-EC34-40AC-BE5A-19AD9A9B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9CAD-C4F6-453F-9631-FA2558E1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31C4-21D7-4E94-9902-D1EBA4D2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10ED3-BAE3-4430-A0FD-D385EFC1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053D-5C70-40D3-88AA-9E90CD8D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9510-855C-4CF7-ADD3-62FBB895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EF42-B5B3-4645-BDA7-94860625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C3A29-4BF0-4E47-A870-E7820A78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147-BEFD-4D2B-9BC6-BDAE4B4F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AB7F-AF9C-46EE-88DF-E60CDEA3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BDF5-5748-4989-969B-2E7956EC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B5A5-0390-450F-A16B-13AC1651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A5FC-9455-4B6E-B06F-91611840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B4A4-2C00-44DB-BB6B-8DE56D7B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DDDB-154E-477C-ACB7-F86A2CB1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F7DF-D8C7-400F-9581-404D3B91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8D666-866C-4036-AC29-33663D17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B0ED-12C9-4258-9ED1-0AB67F17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107F-ADF5-4E47-93FC-087AA69E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5FA-1E23-4959-BEE7-68AB1737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A68C-95B8-48C8-827A-13993AB3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F4F25-5549-4B4E-B411-14D161DE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5202F-F979-4978-85C2-77710842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A8518-810A-48AD-A793-026AAB11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9ADFC-E883-4004-8368-2A2C6387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AE3A-B620-449B-8EA4-222A3026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010CB-F74E-407C-808F-3638C0CA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631BF-03D1-43E0-A203-9271EAEC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35F1-3A25-41CF-B7C7-0604EB35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5F5-C85E-43E0-8396-CD3FC4C3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672-D7D0-4F4F-B029-F88CBB0E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46C-EC2F-4C6C-9ABE-5A5576A3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489-3303-49F5-8DAF-15E7BC1A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1D6-7654-4E10-BFB8-F4A4764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5D15-78FF-4B7A-800D-DA5C9653B7A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232E-1486-42FF-B622-C3795FFF40D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E0F6-B727-430C-9BD1-297D70A9EE2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CE20-2D25-4CEF-954B-227FC383196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39680" y="1255680"/>
            <a:ext cx="8845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теклянный ми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ревнейшие — им около 5 тыс. лет — изделия из стекла найдены в Египте. Уже тогда из этого материала делали не только украшения, но и чаши, кубки, фигурки людей и животных. Все стеклянные вещицы были довольно мелкими, поскольку в больших формах стекло не успевало пропекаться. Позже центрами стеклоделия стали торговые города Финикии. Их оборотистые жители с выгодой обменивали стеклянные бусы и флаконы на золот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рубеже нашей эры то ли в Египте, то ли в Греции был открыт метод выдувания стекла. Благодаря простой металлической трубке стеклянные изделия можно было делать крупнее и качественнее. Процветало стекольное дело и в Древнем Риме. В домах римских патрициев впервые появились стеклянные окна — диковина, которой хозяева гордились. После падения Рима стекольной столицей стал Константинополь. Там начали изготавливать смальту — цветное непрозрачное стекло для витражей, украшавших готические соборы Европ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екл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— неорганическое изотропное вещество, материал, известный и используемый с древнейших времён. Существует и в природной форме, в виде минералов (обсидиан — вулканическое стекло), но в практике — чаще всего, как продукт стеклоделия — одной из древнейших технологий в материальной культуре. Структурно — аморфное вещество, агрегатно относящееся к разряду — твёрдое тел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теклянные ткан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легко было ученым и инженерам отыскать такую толщину стеклянной нити, из которой можно было делать ткани. В частности, чем тоньше требовалась стеклянная нить, тем труднее было ее получать. В конце концов опытным путем установлено, что стеклянная нить толщиной в 5—6 микронов обладает всеми свойствами текстильного волокна; из нее можно ткать стеклянное полотно. Но нить толщиной в 5—б микронов в десять раз тоньше человеческого, волоса, она невидима простым глазом, ее можно наблюдать лишь в микроскоп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5:20:54Z</dcterms:created>
  <dc:creator>Павел</dc:creator>
  <dc:description/>
  <dc:language>en-US</dc:language>
  <cp:lastModifiedBy>Павел</cp:lastModifiedBy>
  <dcterms:modified xsi:type="dcterms:W3CDTF">2010-06-09T10:24:19Z</dcterms:modified>
  <cp:revision>2</cp:revision>
  <dc:subject/>
  <dc:title>Незаметный стеклянный мир</dc:title>
</cp:coreProperties>
</file>